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F512-FE12-479C-9C02-8ED510F0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A5A7-085E-473B-92F9-ACBC4B6F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3990-4DD4-4C06-BA42-1019D0C8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031E-6EC6-46B1-8AF2-14D758AD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140D-32D8-4660-AD56-A8023A68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F7DD-0383-4699-9C01-7F06C1EA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78E6-041D-48F7-B708-9364C75C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1513-CC99-4B17-A44A-A4582091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A7A4-9732-443B-835A-F9666FBC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F81E-9CED-4620-8857-2EB5678D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EDE9-1EAC-4053-984E-96E7DFFB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C21D-B6E9-4333-97AC-EA8BE8F7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5237-DAA3-4DE8-B7E6-350997154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ectrostatic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894760" y="373392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ulomb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굴림"/>
              </a:rPr>
              <a:t>Torsion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4724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Invented by Coulomb to measure very weak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Contributed in the creation of Coulomb’s Law by measuring Coulomb’s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This same device was also used by Henry Cavendish to find the gravitational cons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Image:Bcoulomb.png"/>
          <p:cNvPicPr/>
          <p:nvPr/>
        </p:nvPicPr>
        <p:blipFill>
          <a:blip r:embed="rId1"/>
          <a:stretch/>
        </p:blipFill>
        <p:spPr>
          <a:xfrm>
            <a:off x="5867280" y="1676520"/>
            <a:ext cx="3154320" cy="3698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5" name="Text Box 5"/>
          <p:cNvSpPr/>
          <p:nvPr/>
        </p:nvSpPr>
        <p:spPr>
          <a:xfrm>
            <a:off x="5867280" y="54100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굴림"/>
              </a:rPr>
              <a:t>Coulomb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굴림"/>
              </a:rPr>
              <a:t>s sketch of his in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굴림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When an unknown force is applied to the metallic object or plates in the container, the object sp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The </a:t>
            </a:r>
            <a:r>
              <a:rPr b="1" i="1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greater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 the force is, the </a:t>
            </a:r>
            <a:r>
              <a:rPr b="1" i="1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bigger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 the ang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Coulomb-Torsion-Balance"/>
          <p:cNvPicPr/>
          <p:nvPr/>
        </p:nvPicPr>
        <p:blipFill>
          <a:blip r:embed="rId1"/>
          <a:stretch/>
        </p:blipFill>
        <p:spPr>
          <a:xfrm>
            <a:off x="5562720" y="1676520"/>
            <a:ext cx="3257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굴림"/>
              </a:rPr>
              <a:t>What is Coulomb’s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6760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T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magnitudes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 of the electrostatic force between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two point electric charges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 ar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directly proportional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 to the product of the magnitudes of each charge an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inversely proportional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 to the square of the distance between the charg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fmla1"/>
          <p:cNvPicPr/>
          <p:nvPr/>
        </p:nvPicPr>
        <p:blipFill>
          <a:blip r:embed="rId1"/>
          <a:stretch/>
        </p:blipFill>
        <p:spPr>
          <a:xfrm>
            <a:off x="2743200" y="4876920"/>
            <a:ext cx="3809880" cy="1590480"/>
          </a:xfrm>
          <a:prstGeom prst="rect">
            <a:avLst/>
          </a:prstGeom>
          <a:ln w="57240">
            <a:solidFill>
              <a:srgbClr val="ccffcc"/>
            </a:solidFill>
            <a:miter/>
          </a:ln>
        </p:spPr>
      </p:pic>
      <p:sp>
        <p:nvSpPr>
          <p:cNvPr id="132" name="Text Box 5"/>
          <p:cNvSpPr/>
          <p:nvPr/>
        </p:nvSpPr>
        <p:spPr>
          <a:xfrm>
            <a:off x="2743200" y="4876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  <a:ea typeface="굴림"/>
              </a:rPr>
              <a:t>The strongest formula in the uni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lectrical repulsion between two balloons that are 2 meters apart each carrying a charge of -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om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 flipH="1">
            <a:off x="2362320" y="4191120"/>
            <a:ext cx="914400" cy="0"/>
          </a:xfrm>
          <a:prstGeom prst="line">
            <a:avLst/>
          </a:prstGeom>
          <a:ln w="63360">
            <a:solidFill>
              <a:srgbClr val="cc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 flipH="1">
            <a:off x="3200400" y="2057400"/>
            <a:ext cx="914400" cy="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r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990000" y="990720"/>
            <a:ext cx="71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charges of the same type repel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6"/>
          <p:cNvSpPr/>
          <p:nvPr/>
        </p:nvSpPr>
        <p:spPr>
          <a:xfrm>
            <a:off x="3352680" y="1752480"/>
            <a:ext cx="609840" cy="6098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 flipH="1">
            <a:off x="5029200" y="2057400"/>
            <a:ext cx="914400" cy="0"/>
          </a:xfrm>
          <a:prstGeom prst="line">
            <a:avLst/>
          </a:prstGeom>
          <a:ln w="633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8"/>
          <p:cNvSpPr/>
          <p:nvPr/>
        </p:nvSpPr>
        <p:spPr>
          <a:xfrm>
            <a:off x="5181480" y="1752480"/>
            <a:ext cx="609840" cy="6098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708480" y="5029200"/>
            <a:ext cx="7672680" cy="703800"/>
          </a:xfrm>
          <a:prstGeom prst="rect">
            <a:avLst/>
          </a:prstGeom>
          <a:solidFill>
            <a:srgbClr val="000000"/>
          </a:solidFill>
          <a:ln w="60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wo charges will experience a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OR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ushing them a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pulling them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1211400" y="3124080"/>
            <a:ext cx="66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charges of the opposite type attract one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H="1">
            <a:off x="5867280" y="4191120"/>
            <a:ext cx="914400" cy="0"/>
          </a:xfrm>
          <a:prstGeom prst="line">
            <a:avLst/>
          </a:prstGeom>
          <a:ln w="633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2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3"/>
          <p:cNvGrpSpPr/>
          <p:nvPr/>
        </p:nvGrpSpPr>
        <p:grpSpPr>
          <a:xfrm>
            <a:off x="2362320" y="3505320"/>
            <a:ext cx="761760" cy="1099440"/>
            <a:chOff x="2362320" y="3505320"/>
            <a:chExt cx="761760" cy="1099440"/>
          </a:xfrm>
        </p:grpSpPr>
        <p:sp>
          <p:nvSpPr>
            <p:cNvPr id="55" name="Oval 14"/>
            <p:cNvSpPr/>
            <p:nvPr/>
          </p:nvSpPr>
          <p:spPr>
            <a:xfrm>
              <a:off x="2438280" y="3886200"/>
              <a:ext cx="60984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5"/>
            <p:cNvSpPr/>
            <p:nvPr/>
          </p:nvSpPr>
          <p:spPr>
            <a:xfrm>
              <a:off x="2362320" y="3505320"/>
              <a:ext cx="761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55112E-017 L -0.25 5.55112E-017 E">
                                      <p:cBhvr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5.55112E-017 L 0.25 5.55112E-017 E">
                                      <p:cBhvr>
                                        <p:cTn id="18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5.55112E-017 L -0.175 5.55112E-017 E">
                                      <p:cBhvr>
                                        <p:cTn id="2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5.55112E-017 L 0.175 5.55112E-017 E">
                                      <p:cBhvr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1.11111E-006 L 0.14167 -1.11111E-006 E">
                                      <p:cBhvr>
                                        <p:cTn id="3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14167 -1.11111E-006 E">
                                      <p:cBhvr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3.7037E-006 L 0.08333 -0.00231 E">
                                      <p:cBhvr>
                                        <p:cTn id="40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-0.08333 -1.11111E-006 E">
                                      <p:cBhvr>
                                        <p:cTn id="42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much 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04920" y="1066680"/>
            <a:ext cx="8461080" cy="7038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mount of force that two charged object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ends on three 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4"/>
          <p:cNvSpPr/>
          <p:nvPr/>
        </p:nvSpPr>
        <p:spPr>
          <a:xfrm>
            <a:off x="2286000" y="3733920"/>
            <a:ext cx="9144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"/>
          <p:cNvSpPr/>
          <p:nvPr/>
        </p:nvSpPr>
        <p:spPr>
          <a:xfrm>
            <a:off x="5867280" y="373392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2743200" y="4038480"/>
            <a:ext cx="3657600" cy="703440"/>
            <a:chOff x="2743200" y="4038480"/>
            <a:chExt cx="3657600" cy="703440"/>
          </a:xfrm>
        </p:grpSpPr>
        <p:sp>
          <p:nvSpPr>
            <p:cNvPr id="62" name="Line 7"/>
            <p:cNvSpPr/>
            <p:nvPr/>
          </p:nvSpPr>
          <p:spPr>
            <a:xfrm>
              <a:off x="2743200" y="4724280"/>
              <a:ext cx="3657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8"/>
            <p:cNvSpPr/>
            <p:nvPr/>
          </p:nvSpPr>
          <p:spPr>
            <a:xfrm>
              <a:off x="4345200" y="4038480"/>
              <a:ext cx="37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9"/>
          <p:cNvSpPr/>
          <p:nvPr/>
        </p:nvSpPr>
        <p:spPr>
          <a:xfrm>
            <a:off x="1600200" y="1905120"/>
            <a:ext cx="57913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The charge on the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bject (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he charge on the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bject (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The distance between them (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1216080" y="5105520"/>
            <a:ext cx="680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use Coulomb’s Law to calculate this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1"/>
              <p:cNvSpPr txBox="1"/>
              <p:nvPr/>
            </p:nvSpPr>
            <p:spPr>
              <a:xfrm>
                <a:off x="762120" y="5638680"/>
                <a:ext cx="2197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Rectangle 12"/>
          <p:cNvSpPr/>
          <p:nvPr/>
        </p:nvSpPr>
        <p:spPr>
          <a:xfrm>
            <a:off x="3429000" y="5715000"/>
            <a:ext cx="45720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constant for Coulomb’s Law is “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” is the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LECTROSTATIC 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.99 x 10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N∙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C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ulomb vs. New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1752480" y="1828800"/>
                <a:ext cx="198144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Text Box 4"/>
          <p:cNvSpPr/>
          <p:nvPr/>
        </p:nvSpPr>
        <p:spPr>
          <a:xfrm>
            <a:off x="1216080" y="533520"/>
            <a:ext cx="68389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ok carefully at the Coulomb’s Law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5029200" y="1828800"/>
                <a:ext cx="213372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Text Box 6"/>
          <p:cNvSpPr/>
          <p:nvPr/>
        </p:nvSpPr>
        <p:spPr>
          <a:xfrm>
            <a:off x="1826280" y="990720"/>
            <a:ext cx="584244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equation looks very much li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ton’s Law of Universal Gravit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064240" y="3429000"/>
            <a:ext cx="5085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th have 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VERSE SQUAR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twee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ORC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8"/>
          <p:cNvGrpSpPr/>
          <p:nvPr/>
        </p:nvGrpSpPr>
        <p:grpSpPr>
          <a:xfrm>
            <a:off x="533520" y="4267080"/>
            <a:ext cx="3124080" cy="2288520"/>
            <a:chOff x="533520" y="4267080"/>
            <a:chExt cx="3124080" cy="2288520"/>
          </a:xfrm>
        </p:grpSpPr>
        <p:sp>
          <p:nvSpPr>
            <p:cNvPr id="75" name="Rectangle 9"/>
            <p:cNvSpPr/>
            <p:nvPr/>
          </p:nvSpPr>
          <p:spPr>
            <a:xfrm>
              <a:off x="533520" y="4267080"/>
              <a:ext cx="3124080" cy="228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0"/>
            <p:cNvSpPr/>
            <p:nvPr/>
          </p:nvSpPr>
          <p:spPr>
            <a:xfrm flipV="1">
              <a:off x="1143000" y="4495320"/>
              <a:ext cx="0" cy="16002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1"/>
            <p:cNvSpPr/>
            <p:nvPr/>
          </p:nvSpPr>
          <p:spPr>
            <a:xfrm>
              <a:off x="1143000" y="6095880"/>
              <a:ext cx="1981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1295280" y="4572000"/>
              <a:ext cx="1600200" cy="1397160"/>
            </a:xfrm>
            <a:custGeom>
              <a:avLst/>
              <a:gdLst/>
              <a:ahLst/>
              <a:rect l="l" t="t" r="r" b="b"/>
              <a:pathLst>
                <a:path w="1008" h="880">
                  <a:moveTo>
                    <a:pt x="0" y="0"/>
                  </a:moveTo>
                  <a:cubicBezTo>
                    <a:pt x="4" y="152"/>
                    <a:pt x="8" y="304"/>
                    <a:pt x="48" y="432"/>
                  </a:cubicBezTo>
                  <a:cubicBezTo>
                    <a:pt x="88" y="560"/>
                    <a:pt x="112" y="696"/>
                    <a:pt x="240" y="768"/>
                  </a:cubicBezTo>
                  <a:cubicBezTo>
                    <a:pt x="368" y="840"/>
                    <a:pt x="688" y="848"/>
                    <a:pt x="816" y="864"/>
                  </a:cubicBezTo>
                  <a:cubicBezTo>
                    <a:pt x="944" y="880"/>
                    <a:pt x="976" y="872"/>
                    <a:pt x="1008" y="8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3"/>
            <p:cNvSpPr/>
            <p:nvPr/>
          </p:nvSpPr>
          <p:spPr>
            <a:xfrm>
              <a:off x="687240" y="48798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4"/>
            <p:cNvSpPr/>
            <p:nvPr/>
          </p:nvSpPr>
          <p:spPr>
            <a:xfrm>
              <a:off x="1830600" y="609588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5"/>
          <p:cNvSpPr/>
          <p:nvPr/>
        </p:nvSpPr>
        <p:spPr>
          <a:xfrm>
            <a:off x="4187160" y="4800600"/>
            <a:ext cx="4437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vitational force concern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lomb force is about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6296E-006 L -0.15833 0.02824 E">
                                      <p:cBhvr>
                                        <p:cTn id="105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22860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 could be measured in electron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they are too small to count.  Instead we measure charge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ombs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is 6 billion billion electro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6.2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8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/Coulomb)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bout 1 meter of lightn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320" y="2590920"/>
            <a:ext cx="54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umber of electrons in     5 microCoulom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38098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charge on object with 1 million electrons rubbed onto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0" y="48006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charge on 1 electr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ich is stro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two electrons 1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 a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is the gravitational force between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pends on m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is the electrostatic force between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pends on ch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4"/>
              <p:cNvSpPr txBox="1"/>
              <p:nvPr/>
            </p:nvSpPr>
            <p:spPr>
              <a:xfrm>
                <a:off x="3678120" y="5181480"/>
                <a:ext cx="50641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5"/>
              <p:cNvSpPr txBox="1"/>
              <p:nvPr/>
            </p:nvSpPr>
            <p:spPr>
              <a:xfrm>
                <a:off x="3429000" y="2666880"/>
                <a:ext cx="54165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6"/>
              <p:cNvSpPr txBox="1"/>
              <p:nvPr/>
            </p:nvSpPr>
            <p:spPr>
              <a:xfrm>
                <a:off x="5257800" y="1676520"/>
                <a:ext cx="2133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Text Box 7"/>
          <p:cNvSpPr/>
          <p:nvPr/>
        </p:nvSpPr>
        <p:spPr>
          <a:xfrm>
            <a:off x="5671440" y="3505320"/>
            <a:ext cx="1523520" cy="368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54 x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5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8"/>
              <p:cNvSpPr txBox="1"/>
              <p:nvPr/>
            </p:nvSpPr>
            <p:spPr>
              <a:xfrm>
                <a:off x="5410080" y="4267080"/>
                <a:ext cx="18288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Text Box 9"/>
          <p:cNvSpPr/>
          <p:nvPr/>
        </p:nvSpPr>
        <p:spPr>
          <a:xfrm>
            <a:off x="5595480" y="6095880"/>
            <a:ext cx="1523520" cy="3682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30 x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1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609480" y="708120"/>
            <a:ext cx="8229600" cy="703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ctrostatic force is MUCH stronger thangravitational force for small, charged objects like electrons and protons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380880" y="4572000"/>
                <a:ext cx="236232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3365640" y="4572000"/>
                <a:ext cx="532116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Oval 5"/>
          <p:cNvSpPr/>
          <p:nvPr/>
        </p:nvSpPr>
        <p:spPr>
          <a:xfrm>
            <a:off x="1447920" y="2666880"/>
            <a:ext cx="76176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6"/>
          <p:cNvSpPr/>
          <p:nvPr/>
        </p:nvSpPr>
        <p:spPr>
          <a:xfrm>
            <a:off x="6934320" y="2666880"/>
            <a:ext cx="761760" cy="7621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4840" y="838080"/>
            <a:ext cx="865584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lectrostatic force between these two ob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1790640" y="3657600"/>
            <a:ext cx="5562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59200" y="29844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 = 2.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161720" y="3889440"/>
            <a:ext cx="130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-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599160" y="3886200"/>
            <a:ext cx="138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+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2"/>
              <p:cNvSpPr txBox="1"/>
              <p:nvPr/>
            </p:nvSpPr>
            <p:spPr>
              <a:xfrm>
                <a:off x="4876920" y="5816520"/>
                <a:ext cx="27208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Text Box 13"/>
          <p:cNvSpPr/>
          <p:nvPr/>
        </p:nvSpPr>
        <p:spPr>
          <a:xfrm>
            <a:off x="1094040" y="1447920"/>
            <a:ext cx="6819120" cy="1068840"/>
          </a:xfrm>
          <a:prstGeom prst="rect">
            <a:avLst/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negative answer shows that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ce i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TTR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#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3"/>
              <p:cNvSpPr txBox="1"/>
              <p:nvPr/>
            </p:nvSpPr>
            <p:spPr>
              <a:xfrm>
                <a:off x="380880" y="4572000"/>
                <a:ext cx="236232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3124080" y="4648320"/>
                <a:ext cx="57787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Oval 5"/>
          <p:cNvSpPr/>
          <p:nvPr/>
        </p:nvSpPr>
        <p:spPr>
          <a:xfrm>
            <a:off x="1447920" y="2666880"/>
            <a:ext cx="76176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"/>
          <p:cNvSpPr/>
          <p:nvPr/>
        </p:nvSpPr>
        <p:spPr>
          <a:xfrm>
            <a:off x="6934320" y="2666880"/>
            <a:ext cx="76176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462960" y="685800"/>
            <a:ext cx="865584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lectrostatic force between these two ob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1790640" y="3657600"/>
            <a:ext cx="5562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892680" y="29844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 = 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1069560" y="3889440"/>
            <a:ext cx="14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-5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6544800" y="3886200"/>
            <a:ext cx="14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-2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2"/>
              <p:cNvSpPr txBox="1"/>
              <p:nvPr/>
            </p:nvSpPr>
            <p:spPr>
              <a:xfrm>
                <a:off x="5091120" y="5851440"/>
                <a:ext cx="22892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Text Box 13"/>
          <p:cNvSpPr/>
          <p:nvPr/>
        </p:nvSpPr>
        <p:spPr>
          <a:xfrm>
            <a:off x="1170360" y="1371600"/>
            <a:ext cx="6706440" cy="1068840"/>
          </a:xfrm>
          <a:prstGeom prst="rect">
            <a:avLst/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positive answer shows that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ce i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PUL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굴림"/>
              </a:rPr>
              <a:t>Charles Augustin de Coulom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800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Born in 1736, died in 18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Born in 1736, died in 18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Created a device that helped him develop his theories on charges and electric force and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Torsion Bal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reated a device that helped him develop his theories on charges and electric force and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Torsion Bal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Image:Coulomb.jpg"/>
          <p:cNvPicPr/>
          <p:nvPr/>
        </p:nvPicPr>
        <p:blipFill>
          <a:blip r:embed="rId1"/>
          <a:stretch/>
        </p:blipFill>
        <p:spPr>
          <a:xfrm>
            <a:off x="5257800" y="1981080"/>
            <a:ext cx="3429000" cy="4035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2:43:27Z</dcterms:created>
  <dc:creator>SOCSD</dc:creator>
  <dc:description/>
  <dc:language>en-US</dc:language>
  <cp:lastModifiedBy>"%username%"</cp:lastModifiedBy>
  <cp:lastPrinted>2015-02-04T13:45:04Z</cp:lastPrinted>
  <dcterms:modified xsi:type="dcterms:W3CDTF">2015-02-10T17:24:01Z</dcterms:modified>
  <cp:revision>5</cp:revision>
  <dc:subject/>
  <dc:title>Slide 1</dc:title>
</cp:coreProperties>
</file>